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gif" ContentType="image/gif"/>
  <Override PartName="/ppt/media/jeopardy.wav" ContentType="audio/x-wav"/>
  <Override PartName="/ppt/media/image3.jpeg" ContentType="image/jpeg"/>
  <Override PartName="/ppt/media/image13.jpeg" ContentType="image/jpeg"/>
  <Override PartName="/ppt/media/image2.jpeg" ContentType="image/jpeg"/>
  <Override PartName="/ppt/media/dramaticmusic.wav" ContentType="audio/x-wav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D31-B02C-49EF-A3EE-684D2BAD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E82-5C70-48B2-902D-CB8666B1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017-DC91-4E8F-AD73-CAB4CBF3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3F9-1FBC-4CCC-805D-AE3CD702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A5A3-7F92-4F05-9A06-4AC20685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BFC5-38C4-4466-9EDB-C8E8AC06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23D-F110-441F-B347-92F388FE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EABE-4CA2-466D-B204-CDEECA76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D58D-9C32-4B96-8324-1350E4D4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9070-46AA-4E31-B8A2-B90912A4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4350-92A4-46CD-998F-A334C83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642-D6A9-4B09-8238-203434C0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525A-2797-4D10-9E61-F010909B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C5F2-93E8-46D6-8C6B-5F5BDCC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B501-64FD-42BA-9D0A-0118BA88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C3DB-3880-4710-AC8E-86480EB6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2317-9917-4D8E-9E14-B780D9CE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036F-76F4-43C4-B6F8-AE7AE03A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0CE0-80B0-4B4C-A1DB-95151851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8115-A9E6-4DA6-8933-528EC438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0772-4FEA-42B3-9774-67286921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E425-1612-468B-9815-E307AD58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575-1CB4-4E58-8026-B0CBFE7B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B14D-C5FE-441F-90D4-9C8C656D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C2BB-CF62-499B-82B8-64B7EA1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A5DE-6F39-4DCC-B5BA-55F3D270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1EE5-355A-4D4C-8AC8-E5E5635A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169E-39D4-47F0-99BD-FE79653A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7129-28F1-4B4A-9ABA-DE7B415C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7665-15CF-4281-B665-1A4299B4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035-C8EC-4FA8-991F-27BB17E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5A2-F450-405F-9E0C-A0B8CBCD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DF1-DE15-4811-8378-FF5041DE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264-0F75-4557-B223-FB82A59E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672-6608-4806-8110-5E73EB56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EB0-8070-49D1-8FFA-BC1831C9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a5c445">
                  <a:alpha val="95294"/>
                </a:srgbClr>
              </a:gs>
              <a:gs pos="100000">
                <a:srgbClr val="a5c44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B134-C6AC-44C0-AE56-D228B28B12C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137360" y="0"/>
            <a:ext cx="200664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a5c445">
                  <a:alpha val="95294"/>
                </a:srgbClr>
              </a:gs>
              <a:gs pos="100000">
                <a:srgbClr val="a5c44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137360" y="0"/>
            <a:ext cx="200664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287280" y="4869000"/>
            <a:ext cx="8569440" cy="1368360"/>
          </a:xfrm>
          <a:prstGeom prst="rect">
            <a:avLst/>
          </a:prstGeom>
          <a:gradFill rotWithShape="0">
            <a:gsLst>
              <a:gs pos="0">
                <a:srgbClr val="a5c445">
                  <a:alpha val="40000"/>
                </a:srgbClr>
              </a:gs>
              <a:gs pos="100000">
                <a:srgbClr val="a5c445">
                  <a:alpha val="6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60CE-87A1-44ED-B3A1-61F9152DA10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a5c445">
                  <a:alpha val="95294"/>
                </a:srgbClr>
              </a:gs>
              <a:gs pos="100000">
                <a:srgbClr val="a5c44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7137360" y="0"/>
            <a:ext cx="200664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E5A-CBC5-4D6A-A2FE-8FD690CF9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amaticmusic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jeopardy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9440" y="49244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95280" y="56466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ructional Les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43000" y="26431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90d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TTERFLY LIFE CYC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90d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amatic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h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he 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Caterpi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Chry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Butter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gardenvan.com/images/buttefly_egg1.jpg"/>
          <p:cNvPicPr/>
          <p:nvPr/>
        </p:nvPicPr>
        <p:blipFill>
          <a:blip r:embed="rId1"/>
          <a:stretch/>
        </p:blipFill>
        <p:spPr>
          <a:xfrm>
            <a:off x="857160" y="2143080"/>
            <a:ext cx="3286080" cy="336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714920" y="2857680"/>
            <a:ext cx="407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emale butterfly lays an egg on a lea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aterpil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the egg hatches a tiny caterpil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erpillar eats and eats and e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t3.gstatic.com/images?q=tbn:ANd9GcQF-CRQJ53Og71LgrWHbi5YlwEpBhwyWwXUVjoKStbYpK2ctu7pGg"/>
          <p:cNvPicPr/>
          <p:nvPr/>
        </p:nvPicPr>
        <p:blipFill>
          <a:blip r:embed="rId1"/>
          <a:stretch/>
        </p:blipFill>
        <p:spPr>
          <a:xfrm>
            <a:off x="4643280" y="1857240"/>
            <a:ext cx="38577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Chrys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t2.gstatic.com/images?q=tbn:ANd9GcRMW88v3bFujKqTXiqqF5MP2K8DbvM4gT6-IT3ixmOegaNYjWxAIg"/>
          <p:cNvPicPr/>
          <p:nvPr/>
        </p:nvPicPr>
        <p:blipFill>
          <a:blip r:embed="rId1"/>
          <a:stretch/>
        </p:blipFill>
        <p:spPr>
          <a:xfrm>
            <a:off x="642960" y="2000160"/>
            <a:ext cx="3240000" cy="3659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4429080" y="2500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aterpillar wraps himself inside a cocoon and stays inside for about 2 wee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Butter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25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the chrysalis comes a beautiful butterf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photopumpkin.com/wp-content/uploads/butterfly-3.jpg"/>
          <p:cNvPicPr/>
          <p:nvPr/>
        </p:nvPicPr>
        <p:blipFill>
          <a:blip r:embed="rId1"/>
          <a:stretch/>
        </p:blipFill>
        <p:spPr>
          <a:xfrm>
            <a:off x="1785960" y="1754280"/>
            <a:ext cx="42861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Diagram of The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kwiznet.com/images/questions/grade1/science/life_cycle_of_butterfly.gif"/>
          <p:cNvPicPr/>
          <p:nvPr/>
        </p:nvPicPr>
        <p:blipFill>
          <a:blip r:embed="rId2"/>
          <a:stretch/>
        </p:blipFill>
        <p:spPr>
          <a:xfrm>
            <a:off x="1428840" y="1714680"/>
            <a:ext cx="60721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can see red, green, and ye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have four w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ntennae that help them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 butterflies are bigger than male butterf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tterfly flies from flower to flower eating nec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utrfly-flwr"/>
          <p:cNvPicPr/>
          <p:nvPr/>
        </p:nvPicPr>
        <p:blipFill>
          <a:blip r:embed="rId1"/>
          <a:stretch/>
        </p:blipFill>
        <p:spPr>
          <a:xfrm>
            <a:off x="3733920" y="54291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2786040" y="142920"/>
            <a:ext cx="2357640" cy="1270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http://t3.gstatic.com/images?q=tbn:ANd9GcRRzHosIW0Dj9aoRWNMjXDVWJDvXrFIaFkRkswZQTjsY3J8MRD_"/>
          <p:cNvPicPr/>
          <p:nvPr/>
        </p:nvPicPr>
        <p:blipFill>
          <a:blip r:embed="rId3"/>
          <a:stretch/>
        </p:blipFill>
        <p:spPr>
          <a:xfrm>
            <a:off x="3643200" y="5083200"/>
            <a:ext cx="2071800" cy="1550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ttp://t0.gstatic.com/images?q=tbn:ANd9GcSgLfYuwy9dSlv7dHTULCqejCP4Fzu67PKWSXoFLCishlv8ZoMXxQ"/>
          <p:cNvPicPr/>
          <p:nvPr/>
        </p:nvPicPr>
        <p:blipFill>
          <a:blip r:embed="rId4"/>
          <a:stretch/>
        </p:blipFill>
        <p:spPr>
          <a:xfrm>
            <a:off x="714240" y="5143680"/>
            <a:ext cx="1967040" cy="1500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http://t0.gstatic.com/images?q=tbn:ANd9GcRL2S5xXFbitJb3xyAhVX9yN5aVWli06UurQh1r7Ouq3Uidpa0Y"/>
          <p:cNvPicPr/>
          <p:nvPr/>
        </p:nvPicPr>
        <p:blipFill>
          <a:blip r:embed="rId5"/>
          <a:stretch/>
        </p:blipFill>
        <p:spPr>
          <a:xfrm>
            <a:off x="6572160" y="500076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Owner</cp:lastModifiedBy>
  <dcterms:modified xsi:type="dcterms:W3CDTF">2011-10-20T02:32:13Z</dcterms:modified>
  <cp:revision>17</cp:revision>
  <dc:subject/>
  <dc:title>Fall Season PowerPoint Presentation</dc:title>
</cp:coreProperties>
</file>